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317461"/>
        <c:axId val="42411411"/>
      </c:barChart>
      <c:catAx>
        <c:axId val="753174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11411"/>
        <c:crosses val="autoZero"/>
        <c:auto val="1"/>
        <c:lblAlgn val="ctr"/>
        <c:lblOffset val="100"/>
        <c:noMultiLvlLbl val="0"/>
      </c:catAx>
      <c:valAx>
        <c:axId val="42411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174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8611-FD00-4E3B-93E4-948E1DFC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E59B-95BB-4364-85A9-A4F21F41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8339-359A-4D88-887A-E4BC29F2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4C1-2E5E-4B1B-A0EE-8731E959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EDB8-EDAC-423F-9B43-AE0209EE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B338-7B0C-42AB-9A9F-51887080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F1F8-F250-4460-8865-A647B36C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D824-CFB4-4445-8327-D55CBE0D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74F7-69B5-4D49-9E91-8FD0D19E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043D-4343-442E-B06F-743B903C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01D8-AF55-4D0C-A589-0E5B89DF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BBE-6AA9-47EE-BF17-A1A880C8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9DC96-5D4C-47A2-B938-F2F981BFAD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