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1683537"/>
        <c:axId val="60412180"/>
      </c:barChart>
      <c:catAx>
        <c:axId val="9168353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412180"/>
        <c:crosses val="autoZero"/>
        <c:auto val="1"/>
        <c:lblAlgn val="ctr"/>
        <c:lblOffset val="100"/>
        <c:noMultiLvlLbl val="0"/>
      </c:catAx>
      <c:valAx>
        <c:axId val="6041218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68353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19D7-B59A-452A-BA04-7C99E2D8A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A501-307C-489B-9812-A5DCEE758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2F62-E05B-4197-B882-A97DF3FCD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ACA2-F352-47C6-A351-D7003B406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03D7-1318-44D7-B86A-0606CB5F1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6EEB-2A59-4698-AF46-4D9CD8C74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82A6-708D-4E44-B975-70D511C72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0EF2-53BD-4B0D-BE90-9891CCBD0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0225-A041-47AB-8619-4A6D7CEFE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DC88-FDBB-4469-ADCC-3744CC820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8AE8-D976-4135-B57A-87BC9607F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7EAD-24B7-4B79-BFE7-7D582F1DB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7DDDAF-D57B-44ED-98DB-BB70479D2E9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